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D7822-A40A-4071-A34C-BED0DF362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5F5E-BDB3-43BA-9705-F6EAF5BAA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A879B-DD80-409A-AD79-95510C57A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5879C-A2D6-4D25-826A-60C5FB901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B2EC-9D52-4D0F-98FD-9E91F801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1831-82F9-4230-B8BD-3F35AB60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29E53-4B54-4D86-B8E8-41B64A1FC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B54D-B1E7-479F-9011-15494107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0176-A3B5-4AE8-B2F0-090C67D6E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986B-1B0E-4AA5-94E8-44C45E28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A5DD-15FE-4288-B5BA-30C4E1D2D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6F755-4021-4E38-872E-C65417EE9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6728-4A9A-4032-83A4-C3F11AC93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Program for Experiments</a:t>
            </a:r>
            <a:br>
              <a:rPr sz="4000"/>
            </a:br>
            <a:r>
              <a:rPr b="0" lang="en-US" sz="4000" spc="-1" strike="noStrike">
                <a:solidFill>
                  <a:srgbClr val="000000"/>
                </a:solidFill>
                <a:latin typeface="Arial"/>
              </a:rPr>
              <a:t>(codename AP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 9 July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St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sti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im parameters set </a:t>
            </a:r>
            <a:r>
              <a:rPr b="0" lang="en-US" sz="2400" spc="-1" strike="noStrike">
                <a:solidFill>
                  <a:srgbClr val="000000"/>
                </a:solidFill>
                <a:latin typeface="Arial"/>
              </a:rPr>
              <a:t>	</a:t>
            </a:r>
            <a:r>
              <a:rPr b="0" lang="en-US" sz="2400" spc="-1" strike="noStrike">
                <a:solidFill>
                  <a:srgbClr val="000000"/>
                </a:solidFill>
                <a:latin typeface="Arial"/>
              </a:rPr>
              <a:t>in 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 TDT control tags defined </a:t>
            </a:r>
            <a:r>
              <a:rPr b="0" lang="en-US" sz="2400" spc="-1" strike="noStrike">
                <a:solidFill>
                  <a:srgbClr val="000000"/>
                </a:solidFill>
                <a:latin typeface="Arial"/>
              </a:rPr>
              <a:t>	</a:t>
            </a:r>
            <a:r>
              <a:rPr b="0" lang="en-US" sz="2400" spc="-1" strike="noStrike">
                <a:solidFill>
                  <a:srgbClr val="000000"/>
                </a:solidFill>
                <a:latin typeface="Arial"/>
              </a:rPr>
              <a:t>in .rcx f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timFunc – generate tags from pa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Func – upload tags to RP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unc – trigger RP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486400" y="1600200"/>
            <a:ext cx="32004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 – constru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keSti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ad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Data – stru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ResponseFunc – make TDT ready (reset lat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espon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eedback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ForSubjec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DoneFunc</a:t>
            </a:r>
            <a:endParaRPr b="0" lang="en-US" sz="2400" spc="-1" strike="noStrike">
              <a:solidFill>
                <a:srgbClr val="000000"/>
              </a:solidFill>
              <a:latin typeface="Arial"/>
            </a:endParaRPr>
          </a:p>
        </p:txBody>
      </p:sp>
      <p:sp>
        <p:nvSpPr>
          <p:cNvPr id="105"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et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aitForSu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ell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typ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of functions define default or “canned” behavior for different types of respon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fault’ uses command lin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efaultGetResponseFunc(r); etc.</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box’ uses TDT rbox</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boxGetResponseFunc(r,p); et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access to presenter objec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 puts up a simple window with N butt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GetResponseFunc(r,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2’ similar but window is maintained across trial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2GetResponseFunc(r,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it responder by including ‘type’ as first arg to respon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sponder(‘type’,’rbox’); creates default rbox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 string (‘levitt’)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data – array of stru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hand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Func – set up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Func – update track based on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ValueFunc – tell experiment about next st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Func – plot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Func – report results (thresh?)</a:t>
            </a:r>
            <a:endParaRPr b="0" lang="en-US" sz="2000" spc="-1" strike="noStrike">
              <a:solidFill>
                <a:srgbClr val="000000"/>
              </a:solidFill>
              <a:latin typeface="Arial"/>
            </a:endParaRPr>
          </a:p>
        </p:txBody>
      </p:sp>
      <p:sp>
        <p:nvSpPr>
          <p:cNvPr id="110"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Up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ext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Don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status.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or responders, defined collections of functions for different tracker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ault’ – not yet defined. likely will be M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evitt’ – N up / M down adaptive track.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evittUpdateFunc(t,trial,resp,target);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s and wastes arbitrary numbers of reversal, shifts between multiple step sizes, etc.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cs’ – method of constant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mcsUpdateFunc(t,trial); etc</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tracker type at ini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tracker(‘type’,’levit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presenter (slo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 struct, manages activeX handles by dev type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2  (array of RP2 actx)</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ructs similarly manage device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_files (fields are cell arrays of .rcx or .rco file nam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rate (fields contain samprates of RP dev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gs (fields are cell arrays of tag names defined by rcx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fields are status of each devi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_commands – cell array of arguments to add_de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ecreate() to create new presenter object identical to this one, but run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presenter (method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constru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_device() – main implementation c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_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ad_circuit() – force reload from disk, change file or sampra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 reinstantiate all (recovers from power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tag_val() – TDT wrapper for SetTagVal and Write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g_val() – TDT wrapper to GetTagVal and Read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_trig() – TDT wrapper to SoftT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_trig() – TDT wrapper to ZTri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atten() – control PA5 atten, or set atten_X tags on RP2 / R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_display() – control display of PA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_text() – scroll messages on PA5 display (glitc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_TD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t_TD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 (slo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of stru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 – array of track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_templates –array or </a:t>
            </a:r>
            <a:r>
              <a:rPr b="0" lang="en-US" sz="2400" spc="-1" strike="noStrike">
                <a:solidFill>
                  <a:srgbClr val="000000"/>
                </a:solidFill>
                <a:latin typeface="Arial"/>
              </a:rPr>
              <a:t>	</a:t>
            </a:r>
            <a:r>
              <a:rPr b="0" lang="en-US" sz="2400" spc="-1" strike="noStrike">
                <a:solidFill>
                  <a:srgbClr val="000000"/>
                </a:solidFill>
                <a:latin typeface="Arial"/>
              </a:rPr>
              <a:t>struct of stim objec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_stim – array of stim </a:t>
            </a:r>
            <a:r>
              <a:rPr b="0" lang="en-US" sz="2400" spc="-1" strike="noStrike">
                <a:solidFill>
                  <a:srgbClr val="000000"/>
                </a:solidFill>
                <a:latin typeface="Arial"/>
              </a:rPr>
              <a:t>	</a:t>
            </a:r>
            <a:r>
              <a:rPr b="0" lang="en-US" sz="2400" spc="-1" strike="noStrike">
                <a:solidFill>
                  <a:srgbClr val="000000"/>
                </a:solidFill>
                <a:latin typeface="Arial"/>
              </a:rPr>
              <a:t>objec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ata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Fun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experiment (method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 – init other objects &amp; data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Trial() – construct trial_st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Trial() – present stim, respons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Trial() – update experimenter’s 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ause() – anything that needs doing at pa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sume() – …at resume (recreate presen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SaveData() – write objects and/or data to di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rapup() – anything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kers – array of tracker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ength 1: single track (defaul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2+: prepTrialFunc should be choosing a track to updat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array of stim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 may have 20 frozen noise stim. Draw on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struct of stim objects, e.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tim_templates.A  defines stim type A, .B defines stim type B</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tim type for each interv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ial_stim – the actual stim to call goMakeStim, etc. on</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rray of stim, 1 per interval (defaul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single stim whose params are adjusted for each inter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44" name="PlaceHolder 2"/>
          <p:cNvSpPr>
            <a:spLocks noGrp="1"/>
          </p:cNvSpPr>
          <p:nvPr>
            <p:ph/>
          </p:nvPr>
        </p:nvSpPr>
        <p:spPr>
          <a:xfrm>
            <a:off x="456840" y="1371600"/>
            <a:ext cx="84582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framework for experiments usingTDT and MAT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nderstand progra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ng key program ele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programs across experi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customize – modular desig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 replace / upgrade modu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multiple vers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modules for common tasks (TDT wrapper, Trackers,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vice” independ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different TDT (or non-TDT) setups, different method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1 by Ntrials) of stru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contains values for all trial-varying parameters and data, e.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v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interval / correct respon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and reaction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stimates of threshold,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s also define trialdata, but only include trials for that trac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val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arg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reversal,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periment objects have sensible ‘default’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ResumeFunc() recreates ex.present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should be overridden by study-specific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PrepTrial()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ex.params.intervals (‘AXX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generate trial_stim ([stimA stimA stimB stim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tim contained in stim_templates.A, stim_templates.B, etc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ment will probably do something diffe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sing, Saving, Resuming for long ru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tus fiel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currentTria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paus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esign your main loop using </a:t>
            </a:r>
            <a:r>
              <a:rPr b="0" lang="en-US" sz="2000" spc="-1" strike="noStrike">
                <a:solidFill>
                  <a:srgbClr val="000000"/>
                </a:solidFill>
                <a:latin typeface="Courier New"/>
              </a:rPr>
              <a:t>while</a:t>
            </a:r>
            <a:r>
              <a:rPr b="0" lang="en-US" sz="2000" spc="-1" strike="noStrike">
                <a:solidFill>
                  <a:srgbClr val="000000"/>
                </a:solidFill>
                <a:latin typeface="Arial"/>
              </a:rPr>
              <a:t> rather than </a:t>
            </a:r>
            <a:r>
              <a:rPr b="0" lang="en-US" sz="2000" spc="-1" strike="noStrike">
                <a:solidFill>
                  <a:srgbClr val="000000"/>
                </a:solidFill>
                <a:latin typeface="Courier New"/>
              </a:rPr>
              <a:t>for</a:t>
            </a:r>
            <a:r>
              <a:rPr b="0" lang="en-US" sz="2000" spc="-1" strike="noStrike">
                <a:solidFill>
                  <a:srgbClr val="000000"/>
                </a:solidFill>
                <a:latin typeface="Arial"/>
              </a:rPr>
              <a:t>, or set up your </a:t>
            </a:r>
            <a:r>
              <a:rPr b="0" lang="en-US" sz="2000" spc="-1" strike="noStrike">
                <a:solidFill>
                  <a:srgbClr val="000000"/>
                </a:solidFill>
                <a:latin typeface="Courier New"/>
              </a:rPr>
              <a:t>for</a:t>
            </a:r>
            <a:r>
              <a:rPr b="0" lang="en-US" sz="2000" spc="-1" strike="noStrike">
                <a:solidFill>
                  <a:srgbClr val="000000"/>
                </a:solidFill>
                <a:latin typeface="Arial"/>
              </a:rPr>
              <a:t> loop with ex.status.currentTrial in mi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op can start up at arbitrary trial numb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can be “paused,” then “resumed” l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 ex object to disk allows to resume after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 status may have changed…set ex.resumeFunc to call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resenter = recreate(ex.presenter);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aveDataFunc: save the object, possibly also save xls or dlm fi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PE to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nly (to simplify TDT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stim + respon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periment object only to store data &amp; objects; write presentation, etc. functions directly in main progra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periment methods (goInit) etc to compartmentalize functions (as subfunctions within main file or separate m-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im or tw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iments could use one stim object, modifying its params between intervals (to turn a tone on / off,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is to generate one stim for each inter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no difference. Choose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types vs object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approach allows to incorporate new functionality by subclassing (new objects that inherit behavior of par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 approach has been instead to make objects general enough that different ‘types’ of each object can be created by supplying different function handles and appropriate contents for params, statu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periment will have its own ‘type’ of stim, responder, tracker, and experiment objects (though many default functions may be used, at least a few will be custom). Some of these custom types (or their component functions) might get re-used in other experimen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ould subclassing become necessary? Ne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to d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racker ty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 experiment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icon 16-tracker ripple study, NIH IRN study, UW head-tracked studies, other basic paradigms (single-interval tone-in-noise,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integ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ty straightforward. Expect GUI to collect params prior to object initialization, monitor pause, plot track(s), et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check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ete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out the MATLAB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manua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s data in easy-to-maintain 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ng with relevant functions (class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regation of m-files by type (e.g. all TDT func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implify access to hide implemen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presenter.get_tag_va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expansion / upgrade via sub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hand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store data (e.g. stim.params) and function handles (e.g. stim.makeStimFun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locking behavior to object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oesn’t require subclass for every exp’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code for APE objects is </a:t>
            </a:r>
            <a:r>
              <a:rPr b="0" i="1" lang="en-US" sz="2800" spc="-1" strike="noStrike">
                <a:solidFill>
                  <a:srgbClr val="000000"/>
                </a:solidFill>
                <a:latin typeface="Arial"/>
              </a:rPr>
              <a:t>abstract,</a:t>
            </a:r>
            <a:r>
              <a:rPr b="0" lang="en-US" sz="2800" spc="-1" strike="noStrike">
                <a:solidFill>
                  <a:srgbClr val="000000"/>
                </a:solidFill>
                <a:latin typeface="Arial"/>
              </a:rPr>
              <a:t> not specific regarding methods and ev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stim.params not stim.fre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dat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objects have slots which hold structures of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s (struct of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unctions can fill those structures in any appropriat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function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ac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ke a new stimulu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pare the hardware for next tri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sent a t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ction has two el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that does what needs to hap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method “goX” that triggers the func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is specified by a function hand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makeStimFun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t by user to </a:t>
            </a:r>
            <a:r>
              <a:rPr b="0" i="1" lang="en-US" sz="2400" spc="-1" strike="noStrike">
                <a:solidFill>
                  <a:srgbClr val="000000"/>
                </a:solidFill>
                <a:latin typeface="Arial"/>
              </a:rPr>
              <a:t>any</a:t>
            </a:r>
            <a:r>
              <a:rPr b="0" lang="en-US" sz="2400" spc="-1" strike="noStrike">
                <a:solidFill>
                  <a:srgbClr val="000000"/>
                </a:solidFill>
                <a:latin typeface="Arial"/>
              </a:rPr>
              <a:t> function on p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functions do appropriate things in most cas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only ever triggered by “goX” in user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55"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56"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57"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62"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63"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64"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7"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68" name=""/>
          <p:cNvSpPr/>
          <p:nvPr/>
        </p:nvSpPr>
        <p:spPr>
          <a:xfrm>
            <a:off x="5902200" y="502920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666880" y="5029200"/>
            <a:ext cx="241956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71"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72"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77" name=""/>
          <p:cNvSpPr/>
          <p:nvPr/>
        </p:nvSpPr>
        <p:spPr>
          <a:xfrm>
            <a:off x="2669400" y="4572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a:t>
            </a:r>
            <a:endParaRPr b="0" lang="en-US" sz="1800" spc="-1" strike="noStrike">
              <a:solidFill>
                <a:srgbClr val="000000"/>
              </a:solidFill>
              <a:latin typeface="Arial"/>
            </a:endParaRPr>
          </a:p>
        </p:txBody>
      </p:sp>
      <p:sp>
        <p:nvSpPr>
          <p:cNvPr id="78"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79"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80"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429000" y="3962520"/>
            <a:ext cx="3808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7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a:t>
            </a:r>
            <a:endParaRPr b="0" lang="en-US" sz="4400" spc="-1" strike="noStrike">
              <a:solidFill>
                <a:srgbClr val="000000"/>
              </a:solidFill>
              <a:latin typeface="Arial"/>
            </a:endParaRPr>
          </a:p>
        </p:txBody>
      </p:sp>
      <p:sp>
        <p:nvSpPr>
          <p:cNvPr id="84" name=""/>
          <p:cNvSpPr/>
          <p:nvPr/>
        </p:nvSpPr>
        <p:spPr>
          <a:xfrm>
            <a:off x="2980800" y="1371600"/>
            <a:ext cx="323640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s other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s main l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ndles save/pause/resume</a:t>
            </a:r>
            <a:endParaRPr b="0" lang="en-US" sz="1800" spc="-1" strike="noStrike">
              <a:solidFill>
                <a:srgbClr val="000000"/>
              </a:solidFill>
              <a:latin typeface="Arial"/>
            </a:endParaRPr>
          </a:p>
        </p:txBody>
      </p:sp>
      <p:sp>
        <p:nvSpPr>
          <p:cNvPr id="85" name=""/>
          <p:cNvSpPr/>
          <p:nvPr/>
        </p:nvSpPr>
        <p:spPr>
          <a:xfrm>
            <a:off x="5799240" y="3276720"/>
            <a:ext cx="311148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next 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ks / plots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s to single track</a:t>
            </a:r>
            <a:endParaRPr b="0" lang="en-US" sz="1800" spc="-1" strike="noStrike">
              <a:solidFill>
                <a:srgbClr val="000000"/>
              </a:solidFill>
              <a:latin typeface="Arial"/>
            </a:endParaRPr>
          </a:p>
        </p:txBody>
      </p:sp>
      <p:sp>
        <p:nvSpPr>
          <p:cNvPr id="86" name=""/>
          <p:cNvSpPr/>
          <p:nvPr/>
        </p:nvSpPr>
        <p:spPr>
          <a:xfrm>
            <a:off x="616320" y="5200560"/>
            <a:ext cx="45363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apper for TDT / stores activeX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access to TDT tags &amp;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info necessary to recreate itself</a:t>
            </a:r>
            <a:endParaRPr b="0" lang="en-US" sz="1800" spc="-1" strike="noStrike">
              <a:solidFill>
                <a:srgbClr val="000000"/>
              </a:solidFill>
              <a:latin typeface="Arial"/>
            </a:endParaRPr>
          </a:p>
        </p:txBody>
      </p:sp>
      <p:sp>
        <p:nvSpPr>
          <p:cNvPr id="87" name=""/>
          <p:cNvSpPr/>
          <p:nvPr/>
        </p:nvSpPr>
        <p:spPr>
          <a:xfrm>
            <a:off x="3283560" y="3276720"/>
            <a:ext cx="23007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face to 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s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s feedback</a:t>
            </a:r>
            <a:endParaRPr b="0" lang="en-US" sz="1800" spc="-1" strike="noStrike">
              <a:solidFill>
                <a:srgbClr val="000000"/>
              </a:solidFill>
              <a:latin typeface="Arial"/>
            </a:endParaRPr>
          </a:p>
        </p:txBody>
      </p:sp>
      <p:sp>
        <p:nvSpPr>
          <p:cNvPr id="88" name=""/>
          <p:cNvSpPr/>
          <p:nvPr/>
        </p:nvSpPr>
        <p:spPr>
          <a:xfrm>
            <a:off x="235080" y="3124080"/>
            <a:ext cx="2822040" cy="146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ipe for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stim 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s params to tags</a:t>
            </a:r>
            <a:br>
              <a:rPr sz="1800"/>
            </a:br>
            <a:r>
              <a:rPr b="0" lang="en-US" sz="1800" spc="-1" strike="noStrike">
                <a:solidFill>
                  <a:srgbClr val="000000"/>
                </a:solidFill>
                <a:latin typeface="Arial"/>
              </a:rPr>
              <a:t>     (TDT settings)</a:t>
            </a:r>
            <a:endParaRPr b="0" lang="en-US" sz="1800" spc="-1" strike="noStrike">
              <a:solidFill>
                <a:srgbClr val="000000"/>
              </a:solidFill>
              <a:latin typeface="Arial"/>
            </a:endParaRPr>
          </a:p>
        </p:txBody>
      </p:sp>
      <p:sp>
        <p:nvSpPr>
          <p:cNvPr id="89" name=""/>
          <p:cNvSpPr/>
          <p:nvPr/>
        </p:nvSpPr>
        <p:spPr>
          <a:xfrm flipH="1">
            <a:off x="2666880" y="259092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38120" y="2590920"/>
            <a:ext cx="3812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67280" y="2590920"/>
            <a:ext cx="228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191120" y="2590920"/>
            <a:ext cx="38088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9920" y="2590920"/>
            <a:ext cx="22860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657600" y="449568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52480" y="464832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3809520" y="4495680"/>
            <a:ext cx="381240" cy="6858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172200" y="5638680"/>
            <a:ext cx="5335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6172200" y="5410080"/>
            <a:ext cx="533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68720" y="5181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56:31Z</dcterms:created>
  <dc:creator>Chris Stecker</dc:creator>
  <dc:description/>
  <dc:language>en-US</dc:language>
  <cp:lastModifiedBy>Chris Stecker</cp:lastModifiedBy>
  <dcterms:modified xsi:type="dcterms:W3CDTF">2007-07-09T23:36:28Z</dcterms:modified>
  <cp:revision>18</cp:revision>
  <dc:subject/>
  <dc:title>Slide 1</dc:title>
</cp:coreProperties>
</file>